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1884-CDF0-40E2-B5CB-5799C7967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1D7C-BFF6-4A4E-AB22-E00199C1ACB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F05A-C81A-4538-B16B-3F885BE1523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16B2-48A1-4D9E-8B26-C0A2D8A643D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E208C-5E24-4DF0-9FAD-E7F1CBBB6A0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1DE94-FD5A-4EA1-A0C7-DB5BC72AF7F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07580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07076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6140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0574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244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05204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0736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349360" y="819000"/>
            <a:ext cx="444528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0448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03764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18T22:30:45Z</dcterms:modified>
  <cp:revision>41</cp:revision>
  <dc:subject/>
  <dc:title>lesson three</dc:title>
</cp:coreProperties>
</file>