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21D6-D393-4BE0-9073-902DD5808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5900-329B-46C1-B1AD-D1218C3CC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BC56-1F79-4581-A6C7-D2F84DA3D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re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528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60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,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’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22:38:05Z</dcterms:modified>
  <cp:revision>32</cp:revision>
  <dc:subject/>
  <dc:title>lesson three</dc:title>
</cp:coreProperties>
</file>