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8100-1FA9-4E5C-9F52-F13DF5FDE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2115-763F-4964-9AB2-84403D51B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86CE-D28B-40D1-BA03-7C8F82523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30EE-BD29-4D0A-9B6C-9D328D49F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ABDC-F2D7-4F23-ADF7-189FDE119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45A6-0AA5-4C9B-B8DD-20A791F55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eight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0646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768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 1/2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02972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03224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 Some of the most comm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061400" y="6323400"/>
            <a:ext cx="16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581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 … at % interest … in 10 years you’ll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.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7544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4016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657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28:34Z</dcterms:modified>
  <cp:revision>54</cp:revision>
  <dc:subject/>
  <dc:title>lesson three</dc:title>
</cp:coreProperties>
</file>