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2243-1570-4722-BFAC-DBFCB0D4D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9D1C-4F70-48BB-848E-7B131F89E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1C88-188E-4974-8478-2559B0DAD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4EEC-E97E-4D39-90BD-49DCB7253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BB62-7CE8-4E7A-A8F7-651235FB0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fourteen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umer privac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606840"/>
            <a:ext cx="64296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otecting your privacy: your options as a consume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opting out” of direct marketing progra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sk merchant to be removed from his/her mailing li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Contact the Direct Marketing Association (DMA) to have your name removed from the mailing lists of its member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Eurostile-Demi"/>
              </a:rPr>
              <a:t>Direct Marketing Associ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Mail Preference Serv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P.O. Box 9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Farmingdale, NY 11735-9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thedm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Contact the DMA to have your name removed from telephone lists of its members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Eurostile-Demi"/>
              </a:rPr>
              <a:t>Direct Marketing Associ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Telephone Preference Serv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P.O. Box 90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Farmingdale, NY 11735-90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thedm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your options as a consum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nswer only necessary information on product warranty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Never give out personal or financial information over the phone unless you know the company and know how the information will be u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Don’t give personal information at point-of-sale transact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If a telemarketer calls and you don’t want future solicitations, cite the federal law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6975000" y="6323400"/>
            <a:ext cx="172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credit report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dentifying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, Social Security number, address, and sometimes phone number, previous address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nd employ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credit history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evious and current types of credit, credit providers, payment habits, outstanding obligations and debts, and extent of credit grante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ublic record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Usually limited to tax liens, judgments, and bankrupt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or requester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s of those who have requested information about this consumer in the recent pa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970320" y="6323400"/>
            <a:ext cx="172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viewing your credit repor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ipulates that an individual, upon request to the consumer-reporting agency, may have access to a copy of his or her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7008480" y="6323400"/>
            <a:ext cx="168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6019920" y="2365200"/>
            <a:ext cx="2743200" cy="6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nsUnion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umer Relation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nsunio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33520" y="2365200"/>
            <a:ext cx="2361960" cy="6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perian Consumer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sistance Center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ria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429000" y="2365200"/>
            <a:ext cx="1781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quifax Credit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formation Service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quifax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57200" y="3733920"/>
            <a:ext cx="8001000" cy="9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itional questions about your credit report rights can be directed to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ederal Trade Commission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tccomplaintassistant.gov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457200" y="1984320"/>
            <a:ext cx="80010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 receive a copy of your credit report, contact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elecommunication devices and serv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lephone – Mobile phones and de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axes – Internet – Radi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ller ID – Call waiting – Three-way call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 transfer – WiFi – Streaming – S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012440" y="6323400"/>
            <a:ext cx="167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electronic monitoring in the workplac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ypes of electronic monitoring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elephone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Voice mail and electronic mail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keystrokes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ocational detect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urveillance video camer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699156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cy and informa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nformation privacy: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ivacy that involves the rights of individuals in relation to information about them that is circulating in societ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privacy is an important issue in the Information 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systems record and store a lot of information about us and our consumer activi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ublic and private organizations can share our computer files. For example, the IRS can acc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financial data about you from your bank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data can travel and change hands in just a few sec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Because of these factors, accurate data is paramou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information privacy is a sensitive iss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nformation is a very valuable resou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ess to information in our society today offers many benefits to consumers, but also pose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potential threat to our privac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994080" y="6323400"/>
            <a:ext cx="1718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information generally available from public source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emographic information (U.S. cens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elephone director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irth, marriage, and divor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Voter registration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ampaign contribu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s/vehicle registr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icenses and permits (hunting, fishing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egal information (judgments, bankruptcies, real estate titles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99624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te databases available to only those with a legitimate purpos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mployment 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repo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information (IRS/state tax board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imin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rvice records (welfare, Medicaid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choo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001640" y="6323400"/>
            <a:ext cx="171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mending or correcting recor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vacy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requires each federal agency that maintains records to permit individuals to request amendment of his or her recor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o amend or expunge a record you mus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ntact the agency in ques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wait administrative review of requ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f request is denied, you can request a court revie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Fair Credit Reporting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gives consumers the right to dispute inaccurate information and permits them to insert their own version of disputed information into a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987600" y="6323400"/>
            <a:ext cx="1724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database profile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atabase profiles are files of information about you that are stored in computer systems and may be used by a variety of organiz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Caslon-Regular"/>
              </a:rPr>
              <a:t>This information include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hone and fax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curity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card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ank account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tudent loan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ing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Worker’s compensation and insuran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olitical affili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pending patter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oduct preferen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stimated inco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700884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Caslon-Regular"/>
              </a:rPr>
              <a:t>Get to know some key federal privacy protection law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0: 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uarantees consumer rights in the collection and reporting of information for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redit, employment, insurance, and other consumer business transac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American citizens the right to request, inspect, and challenge their own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feder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Family Educational Rights and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parents and students over 18 access to the student’s schoo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5: Equal Credit Opportunit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Outlaws discrimination in granting credit due to age, gender, marital status,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religion, ethnicity, national origin, or receipt of public assistan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6: Tax Reform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imits disclosure of tax information and requires that taxpayers be notified wh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heir tax records are summoned from record keep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Rights to Financial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ets conditions under which federal investigators can access an individual’s bank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ount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701100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Electronic Fund Transfer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Requires banks that provide EFT services to disclose the circumstances under which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ccount information can be disclosed to third par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0: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ess and others that disseminate information to the public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from unlawful government searches and seizure of their work product and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other materia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4: Cable Communications Poli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otects the privacy of cable television subscriber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6: Electronic Communications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otects the privacy of electronic communications and transactional data such as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elephone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Computer Matching and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individual privacy in connection with government benefit programs in whic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 individual’s records at one government agency are compared against similar record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t other agen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Video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Mandates a court order to gain access to videocassette rent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01100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1: Telephone Consumer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consumers from unwanted telemarketing calls, and restricts the timing of calls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d the use of auto-dialers in telemarket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6: The Health Insurance Portability and Accountability Act of 1996 (HIPA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patients from the disclosure of sensitive, health-related information without their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knowledge or cons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8: Children’s Online Privacy Protection Act of 1998 (COPP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children’s online privacy by regulating the collection of personal information from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children under 13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2000: U.S. Congress Electronic Signatures in Global National Commerce Act (“ESIGN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Helps ensure the legality and validity of electronic contrac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2003: Fair and Accurate Credit Transactions Act (FACT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Entitles consumers to one free credit report per year, enables them to opt out of credit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offers and features other provisions designed to help protect consumers from identity thef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701100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1-14T20:42:19Z</dcterms:modified>
  <cp:revision>53</cp:revision>
  <dc:subject/>
  <dc:title>lesson three</dc:title>
</cp:coreProperties>
</file>