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C51A0-04FD-4BBE-B8B4-593D16BAC9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55B1C-B214-4D4F-BD59-5668A352D944}"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C6B38-57B7-4CEA-A7BC-DE8782A43589}"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A5793-4A55-4E33-A2D9-DCF36A71F5AD}"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2D693-1052-44A4-95C4-FCD706AEA45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528E1-343D-4788-8E85-953E804ADC4C}"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eight</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 card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redit card do’s and don’ts</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hop aroun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ok at various sourc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d and understand the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contract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rush into signing anyth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ce a contract is signed, get a copy of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now your cos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gure out total price when paying with cred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the largest payments possibl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uy on installment credit only after you have evaluated all other possibiliti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misled into thinking small payments will be easy.</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9" name="Text Box 4"/>
          <p:cNvSpPr/>
          <p:nvPr/>
        </p:nvSpPr>
        <p:spPr>
          <a:xfrm>
            <a:off x="7151040" y="6323400"/>
            <a:ext cx="15523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much can you afford? (the 20-10 rule)</a:t>
            </a:r>
            <a:endParaRPr b="0" lang="en-US" sz="2000" spc="-1" strike="noStrike">
              <a:solidFill>
                <a:srgbClr val="30797b"/>
              </a:solidFill>
              <a:latin typeface="Verdana"/>
            </a:endParaRPr>
          </a:p>
        </p:txBody>
      </p:sp>
      <p:sp>
        <p:nvSpPr>
          <p:cNvPr id="121" name="PlaceHolder 2"/>
          <p:cNvSpPr>
            <a:spLocks noGrp="1"/>
          </p:cNvSpPr>
          <p:nvPr>
            <p:ph/>
          </p:nvPr>
        </p:nvSpPr>
        <p:spPr>
          <a:xfrm>
            <a:off x="457200" y="990360"/>
            <a:ext cx="7772400" cy="464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ver borrow more than 20% of your year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net income (money after taxes) is $400 a month, then your net income in one year is:</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12 x $400 = $4,800</a:t>
            </a:r>
            <a:endParaRPr b="0" lang="en-US" sz="1200" spc="-1" strike="noStrike">
              <a:solidFill>
                <a:srgbClr val="000000"/>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culate 20% of your annual net income to find your safe debt load.</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800 x 20% = $960</a:t>
            </a:r>
            <a:endParaRPr b="0" lang="en-US" sz="12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o, you should never have more than $960 of debt outstanding.</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20%, but other debt should.</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thly payments shouldn’t exceed 10% of your month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take-home pay is $400 a month:</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00 x 10% = $40</a:t>
            </a:r>
            <a:endParaRPr b="0" lang="en-US" sz="12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total monthly debt payments shouldn’t total more than $40 per month.</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10%, but other debt should be included, such as car loans, student loans, and credit cards.</a:t>
            </a:r>
            <a:endParaRPr b="0" lang="en-US" sz="1400" spc="-1" strike="noStrike">
              <a:solidFill>
                <a:srgbClr val="000000"/>
              </a:solidFill>
              <a:latin typeface="Verdana"/>
            </a:endParaRPr>
          </a:p>
        </p:txBody>
      </p:sp>
      <p:sp>
        <p:nvSpPr>
          <p:cNvPr id="122" name="Text Box 4"/>
          <p:cNvSpPr/>
          <p:nvPr/>
        </p:nvSpPr>
        <p:spPr>
          <a:xfrm>
            <a:off x="7153200" y="6323400"/>
            <a:ext cx="15462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pplying for a credit card</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s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Percentage Rate (AP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ace perio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action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lancing computation method for the finance charg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atur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lim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widely the card is accepte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services and features are available</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13592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lculating finance charges </a:t>
            </a:r>
            <a:endParaRPr b="0" lang="en-US" sz="2000" spc="-1" strike="noStrike">
              <a:solidFill>
                <a:srgbClr val="30797b"/>
              </a:solidFill>
              <a:latin typeface="Verdana"/>
            </a:endParaRPr>
          </a:p>
        </p:txBody>
      </p:sp>
      <p:sp>
        <p:nvSpPr>
          <p:cNvPr id="97" name="PlaceHolder 2"/>
          <p:cNvSpPr>
            <a:spLocks noGrp="1"/>
          </p:cNvSpPr>
          <p:nvPr>
            <p:ph/>
          </p:nvPr>
        </p:nvSpPr>
        <p:spPr>
          <a:xfrm>
            <a:off x="457200" y="1447920"/>
            <a:ext cx="8305920" cy="44956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average balance owed during the billing cycle. The creditor figures the balance in your account on each day of the billing cycle, then adds together these amounts and divides by the number of days in the billing cycl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after subtracting the payment or return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regardless of payment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st-due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finance charge is added if the full payment is received within the grace period. If it is not received, a finance charge for the unpaid amount is added on to your next bill.</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713808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finance charges</a:t>
            </a:r>
            <a:endParaRPr b="0" lang="en-US" sz="2000" spc="-1" strike="noStrike">
              <a:solidFill>
                <a:srgbClr val="30797b"/>
              </a:solidFill>
              <a:latin typeface="Verdana"/>
            </a:endParaRPr>
          </a:p>
        </p:txBody>
      </p:sp>
      <p:sp>
        <p:nvSpPr>
          <p:cNvPr id="100" name="Text Box 4"/>
          <p:cNvSpPr/>
          <p:nvPr/>
        </p:nvSpPr>
        <p:spPr>
          <a:xfrm>
            <a:off x="712764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C</a:t>
            </a:r>
            <a:endParaRPr b="1" lang="en-US" sz="900" spc="-1" strike="noStrike">
              <a:solidFill>
                <a:srgbClr val="000000"/>
              </a:solidFill>
              <a:latin typeface="Verdana"/>
            </a:endParaRPr>
          </a:p>
        </p:txBody>
      </p:sp>
      <p:graphicFrame>
        <p:nvGraphicFramePr>
          <p:cNvPr id="101" name=""/>
          <p:cNvGraphicFramePr/>
          <p:nvPr/>
        </p:nvGraphicFramePr>
        <p:xfrm>
          <a:off x="838080" y="1233360"/>
          <a:ext cx="7772400" cy="4192560"/>
        </p:xfrm>
        <a:graphic>
          <a:graphicData uri="http://schemas.openxmlformats.org/drawingml/2006/table">
            <a:tbl>
              <a:tblPr/>
              <a:tblGrid>
                <a:gridCol w="1943280"/>
                <a:gridCol w="216000"/>
                <a:gridCol w="1726920"/>
                <a:gridCol w="206640"/>
                <a:gridCol w="1942920"/>
                <a:gridCol w="1736640"/>
              </a:tblGrid>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a:t>
                      </a:r>
                      <a:br>
                        <a:rPr sz="1200"/>
                      </a:br>
                      <a:r>
                        <a:rPr b="1" lang="en-US" sz="1200" spc="-1" strike="noStrike">
                          <a:solidFill>
                            <a:srgbClr val="000000"/>
                          </a:solidFill>
                          <a:latin typeface="Verdana"/>
                        </a:rPr>
                        <a:t>daily 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nthl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at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ymen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On 15th day (new balance =$100)</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10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ffffff"/>
                      </a:solidFill>
                    </a:lnT>
                    <a:lnB w="5760">
                      <a:solidFill>
                        <a:srgbClr val="000000"/>
                      </a:solidFill>
                    </a:lnB>
                    <a:noFill/>
                  </a:tcPr>
                </a:tc>
              </a:tr>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nance charg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75</a:t>
                      </a:r>
                      <a:br>
                        <a:rPr sz="1200"/>
                      </a:br>
                      <a:r>
                        <a:rPr b="0" lang="en-US" sz="1200" spc="-1" strike="noStrike">
                          <a:solidFill>
                            <a:srgbClr val="000000"/>
                          </a:solidFill>
                          <a:latin typeface="ACaslon-Regular"/>
                        </a:rPr>
                        <a:t>(1.5% x $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50</a:t>
                      </a:r>
                      <a:br>
                        <a:rPr sz="1200"/>
                      </a:br>
                      <a:r>
                        <a:rPr b="0" lang="en-US" sz="1200" spc="-1" strike="noStrike">
                          <a:solidFill>
                            <a:srgbClr val="000000"/>
                          </a:solidFill>
                          <a:latin typeface="ACaslon-Regular"/>
                        </a:rPr>
                        <a:t>(1.5% x $1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6.00</a:t>
                      </a:r>
                      <a:br>
                        <a:rPr sz="1200"/>
                      </a:br>
                      <a:r>
                        <a:rPr b="0" lang="en-US" sz="1200" spc="-1" strike="noStrike">
                          <a:solidFill>
                            <a:srgbClr val="000000"/>
                          </a:solidFill>
                          <a:latin typeface="ACaslon-Regular"/>
                        </a:rPr>
                        <a:t>(1.5% x $4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 To figure average daily balance:</a:t>
                      </a:r>
                      <a:br>
                        <a:rPr sz="1200"/>
                      </a:br>
                      <a:r>
                        <a:rPr b="0" lang="en-US" sz="1200" spc="-1" strike="noStrike">
                          <a:solidFill>
                            <a:srgbClr val="000000"/>
                          </a:solidFill>
                          <a:latin typeface="ACaslon-Regular"/>
                        </a:rPr>
                        <a:t>($400 x 15 days) + ($100 x 15 days) = $250 x 30 days</a:t>
                      </a:r>
                      <a:endParaRPr b="1" lang="en-US" sz="12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ing credit cards</a:t>
            </a:r>
            <a:endParaRPr b="0" lang="en-US" sz="2000" spc="-1" strike="noStrike">
              <a:solidFill>
                <a:srgbClr val="30797b"/>
              </a:solidFill>
              <a:latin typeface="Verdana"/>
            </a:endParaRPr>
          </a:p>
        </p:txBody>
      </p:sp>
      <p:sp>
        <p:nvSpPr>
          <p:cNvPr id="103" name="PlaceHolder 2"/>
          <p:cNvSpPr>
            <a:spLocks noGrp="1"/>
          </p:cNvSpPr>
          <p:nvPr>
            <p:ph/>
          </p:nvPr>
        </p:nvSpPr>
        <p:spPr>
          <a:xfrm>
            <a:off x="457200" y="1066680"/>
            <a:ext cx="8153280" cy="4724640"/>
          </a:xfrm>
          <a:prstGeom prst="rect">
            <a:avLst/>
          </a:prstGeom>
          <a:noFill/>
          <a:ln w="0">
            <a:noFill/>
          </a:ln>
        </p:spPr>
        <p:txBody>
          <a:bodyPr anchor="t">
            <a:normAutofit/>
          </a:bodyPr>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ype of accou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fee</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Grace peri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Percentage Rate (APR)</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redit limi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Minimum monthly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inance charge calculation meth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Late payment fee, other fees</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Other feature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4" name="Text Box 6"/>
          <p:cNvSpPr/>
          <p:nvPr/>
        </p:nvSpPr>
        <p:spPr>
          <a:xfrm>
            <a:off x="712944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hat to do if you’re denied credit</a:t>
            </a:r>
            <a:endParaRPr b="0" lang="en-US" sz="2000" spc="-1" strike="noStrike">
              <a:solidFill>
                <a:srgbClr val="30797b"/>
              </a:solidFill>
              <a:latin typeface="Verdana"/>
            </a:endParaRPr>
          </a:p>
        </p:txBody>
      </p:sp>
      <p:sp>
        <p:nvSpPr>
          <p:cNvPr id="106"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think the reasons for the denial are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if you can provide additional information or arrange alternate credit terms.</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pply to another creditor whose standards may be different.</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o the things you need to do to improve your creditworthiness (pay bills on time, increase income,</a:t>
            </a:r>
            <a:br>
              <a:rPr sz="1200"/>
            </a:br>
            <a:r>
              <a:rPr b="0" lang="en-US" sz="1200" spc="-1" strike="noStrike">
                <a:solidFill>
                  <a:srgbClr val="000000"/>
                </a:solidFill>
                <a:latin typeface="Verdana"/>
              </a:rPr>
              <a:t>   reduce spending, obtain a secured card, etc.) and then reapply.</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are not sure whether the reason for the denial is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to explain why you were deni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view your credit histor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find your credit history contains errors, take steps to correct the error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believe the reason for the denial is invalid and that the creditor has discriminated against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otify the federal enforcement agency whose name you were given by the creditor. The federal</a:t>
            </a:r>
            <a:br>
              <a:rPr sz="1200"/>
            </a:br>
            <a:r>
              <a:rPr b="0" lang="en-US" sz="1200" spc="-1" strike="noStrike">
                <a:solidFill>
                  <a:srgbClr val="000000"/>
                </a:solidFill>
                <a:latin typeface="Verdana"/>
              </a:rPr>
              <a:t>   enforcement agency will investigate and report back to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can afford it, hire an attorney to file suit against the creditor. If the court determines the</a:t>
            </a:r>
            <a:br>
              <a:rPr sz="1200"/>
            </a:br>
            <a:r>
              <a:rPr b="0" lang="en-US" sz="1200" spc="-1" strike="noStrike">
                <a:solidFill>
                  <a:srgbClr val="000000"/>
                </a:solidFill>
                <a:latin typeface="Verdana"/>
              </a:rPr>
              <a:t>   creditor did discriminate, the creditor will be required to pay you actual damages plus punitive</a:t>
            </a:r>
            <a:br>
              <a:rPr sz="1200"/>
            </a:br>
            <a:r>
              <a:rPr b="0" lang="en-US" sz="1200" spc="-1" strike="noStrike">
                <a:solidFill>
                  <a:srgbClr val="000000"/>
                </a:solidFill>
                <a:latin typeface="Verdana"/>
              </a:rPr>
              <a:t>   dama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7" name="Text Box 8"/>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credit card statement</a:t>
            </a:r>
            <a:endParaRPr b="0" lang="en-US" sz="2000" spc="-1" strike="noStrike">
              <a:solidFill>
                <a:srgbClr val="30797b"/>
              </a:solidFill>
              <a:latin typeface="Verdana"/>
            </a:endParaRPr>
          </a:p>
        </p:txBody>
      </p:sp>
      <p:sp>
        <p:nvSpPr>
          <p:cNvPr id="109" name="Text Box 5"/>
          <p:cNvSpPr/>
          <p:nvPr/>
        </p:nvSpPr>
        <p:spPr>
          <a:xfrm>
            <a:off x="715104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F</a:t>
            </a:r>
            <a:endParaRPr b="1" lang="en-US" sz="900" spc="-1" strike="noStrike">
              <a:solidFill>
                <a:srgbClr val="000000"/>
              </a:solidFill>
              <a:latin typeface="Verdana"/>
            </a:endParaRPr>
          </a:p>
        </p:txBody>
      </p:sp>
      <p:pic>
        <p:nvPicPr>
          <p:cNvPr id="110" name="Picture 2" descr=""/>
          <p:cNvPicPr/>
          <p:nvPr/>
        </p:nvPicPr>
        <p:blipFill>
          <a:blip r:embed="rId1"/>
          <a:stretch/>
        </p:blipFill>
        <p:spPr>
          <a:xfrm>
            <a:off x="2459160" y="966960"/>
            <a:ext cx="4225680" cy="492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aling with billing errors</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ir credit billing act (1974)</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ts up a procedure for the quick correction of mistakes that appear on consum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accou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 challenge a billing statement for errors such as charges for unauthorized purchases, charges for items that were never delivered, failure to credit a payment, etc.</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notify the creditor of a disputed item within 60 day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investigate and, within 90 days of being notified of the dispute, either correct the mistake or explain why the charge is not in err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not be billed for or forced to pay the disputed amount until the creditor has finished the investig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it is determined that you are responsible for the bill, you must be given the usual amount of time to pay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credit history is protected during the dispute proces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supply customers with a statement of their rights at the time the account is opened and at least twice a year thereaft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3" name="Text Box 4"/>
          <p:cNvSpPr/>
          <p:nvPr/>
        </p:nvSpPr>
        <p:spPr>
          <a:xfrm>
            <a:off x="7120080" y="6323400"/>
            <a:ext cx="159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ther credit card protectio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mpt credit for pay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ard issuer must credit your account on the day the issuer receives your payment, unless the payment is not made according to the creditor’s requirements.</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unds of credit balan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return merchandise or pay more than you owe, you have the option of keeping the credit balance on your account or receiving a refund.</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report your card lost before it is used, you cannot be held responsible for any 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card is used before you report it lost, you are liable for $50 if reported within two business days. After that, you’re liable for no more than $500.00.</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isputes about merchandise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some circumstances, you have the right to withhold payment for unsatisfactory merchandise or servic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7112880" y="6323400"/>
            <a:ext cx="1595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0-11T17:56:01Z</dcterms:modified>
  <cp:revision>42</cp:revision>
  <dc:subject/>
  <dc:title>lesson three</dc:title>
</cp:coreProperties>
</file>