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4646-A8AC-424F-BD38-2AA8DCE13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2AF7-19A3-4423-9789-9F1F7F138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6DCA-20B3-4D9B-A2F7-B8E0EA8ED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F759-0C93-4745-8FBC-4866DCAF8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0BF0-1B9F-4CA1-9FEA-A1D748831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9559-6739-410A-B198-A9CB97E4D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wel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s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120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953400" y="6323400"/>
            <a:ext cx="174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made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968160" y="6323400"/>
            <a:ext cx="173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968880" y="6323400"/>
            <a:ext cx="173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ome of the most common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996240" y="6323400"/>
            <a:ext cx="171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% interest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0 years you’ll have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55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,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90120" y="6323400"/>
            <a:ext cx="172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1028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4290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19:10:33Z</dcterms:modified>
  <cp:revision>51</cp:revision>
  <dc:subject/>
  <dc:title>lesson three</dc:title>
</cp:coreProperties>
</file>